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55803"/>
        <c:axId val="52622395"/>
      </c:barChart>
      <c:catAx>
        <c:axId val="62455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22395"/>
        <c:crosses val="autoZero"/>
        <c:auto val="1"/>
        <c:lblAlgn val="ctr"/>
        <c:lblOffset val="100"/>
        <c:noMultiLvlLbl val="0"/>
      </c:catAx>
      <c:valAx>
        <c:axId val="52622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55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C44-89F5-4477-BAEB-A1416C77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CCA-3484-4AE7-AA07-16AEEF20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E72-3099-4165-A9A2-CCC21879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F39-DD4A-4C84-B1E6-E6FD20D2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AB3-C0B0-48E9-BEE1-FF7F6A8C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A91-F70F-4C3C-AC56-2B703CAA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BE7-D38F-4FE2-A9F1-BBAC6E54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03E-2595-48BA-98BC-CF3E3550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3A8-0692-4E4E-A95D-BB8CEB3F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328-5172-42C4-8160-EED03151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462-DC25-4D55-B392-8BF2296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03E-174A-4F0C-8F93-E8E859F4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CDA7E-1CFE-43F3-9B55-AE698D0077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