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691484"/>
        <c:axId val="98574072"/>
      </c:barChart>
      <c:catAx>
        <c:axId val="716914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74072"/>
        <c:crosses val="autoZero"/>
        <c:auto val="1"/>
        <c:lblAlgn val="ctr"/>
        <c:lblOffset val="100"/>
        <c:noMultiLvlLbl val="0"/>
      </c:catAx>
      <c:valAx>
        <c:axId val="985740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6914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6C41-03F1-4AC4-9542-036594292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7AB8-7A40-4890-AA67-58166105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0A2C-C52B-4946-9BDE-210DE2917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FF79-5107-4908-B501-82FAA334E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C734-5C36-4651-B46B-246D576A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AF03-028B-440D-9F47-93D34E97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3673-1D24-42AF-8DFE-92A1F8D2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B826-2A2F-4D5E-9497-3EC99D84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DC4D-775F-4979-AEC0-EDEF01DB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A2D0-5C39-46DA-B47A-54E03FAD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AACB-D39E-40F6-8734-939ED7BE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AB12-70AC-45F8-8BEC-419EA61C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AA2509-FDAB-43A0-B185-AF5CEF79AA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