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67743"/>
        <c:axId val="70624224"/>
      </c:barChart>
      <c:catAx>
        <c:axId val="91967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4224"/>
        <c:crosses val="autoZero"/>
        <c:auto val="1"/>
        <c:lblAlgn val="ctr"/>
        <c:lblOffset val="100"/>
        <c:noMultiLvlLbl val="0"/>
      </c:catAx>
      <c:valAx>
        <c:axId val="70624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67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BF6-7C23-4399-8254-0AB85CC3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D26-4C2D-4929-8B4B-67C1FF3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56B-3A96-41AF-84CC-D562E1D5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2FE-F84C-4B8A-97CA-378C27DF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390-1AAD-4A3E-AD84-696D1CD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023-E4EC-4A94-A893-DE377E6E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453-9202-43A3-86D2-9A1CF4F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8CA-1FAE-474C-8204-6B5B030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2DC-C61C-4DC9-82CE-C641E24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ABD-8A4D-4B39-8925-0830992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E37-6205-4A2F-9AAB-E3E686A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A1F-6ED1-4965-AA4D-6128D2D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B526E-A297-4F29-BDAB-168B85E745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