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8945"/>
        <c:axId val="21650952"/>
      </c:barChart>
      <c:catAx>
        <c:axId val="7158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50952"/>
        <c:crosses val="autoZero"/>
        <c:auto val="1"/>
        <c:lblAlgn val="ctr"/>
        <c:lblOffset val="100"/>
        <c:noMultiLvlLbl val="0"/>
      </c:catAx>
      <c:valAx>
        <c:axId val="21650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DEE-6AB4-496D-A717-F7B0ECC6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C11-4403-427D-868C-449E6DDB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4AF-05F3-4446-9BDE-355A202F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03D-9681-471F-91F1-89E26BD5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73D-1342-4A33-82D4-68736D3F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0F7-78DC-4A04-8B42-365C4F05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3D3-E2D1-4CCB-A578-0FD6337D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506-88E5-42E6-BC17-4D5B7C2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466-7925-4CB7-BB6C-1BFB19B1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438-D733-41D4-A4AF-FEB14263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3C7-AC3E-4D75-AF17-A68A4F39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263-F6F5-4320-9ACF-973B1DC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1AA82-A77D-4E40-BE78-EF8C4A74D5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