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10751"/>
        <c:axId val="10173350"/>
      </c:barChart>
      <c:catAx>
        <c:axId val="79510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3350"/>
        <c:crosses val="autoZero"/>
        <c:auto val="1"/>
        <c:lblAlgn val="ctr"/>
        <c:lblOffset val="100"/>
        <c:noMultiLvlLbl val="0"/>
      </c:catAx>
      <c:valAx>
        <c:axId val="10173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0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4B7-C506-4965-ADA1-8D5E8805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A24-15CD-45D2-BD05-82DFD907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160-5E0F-4C76-8F1D-43AEF5BF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AC7-F170-4A6B-B76D-AED9521C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1F5-189C-4EA2-AA99-9E2E857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DF6-45CB-4D63-BA9F-8E1C3FA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D3B-093A-4E88-BB15-BCA74E7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BD6-17BA-465A-9943-65F070A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FC3-B070-4FBD-B029-0DB2B93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4C7-87F3-4BF9-971F-DF6C06B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DB1-DCD8-4676-983A-0B61C44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F76-2EEB-492D-8E43-2CA2BA6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68292-4AFF-46A7-909C-4CB612C01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