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90886"/>
        <c:axId val="17596017"/>
      </c:barChart>
      <c:catAx>
        <c:axId val="809908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96017"/>
        <c:crosses val="autoZero"/>
        <c:auto val="1"/>
        <c:lblAlgn val="ctr"/>
        <c:lblOffset val="100"/>
        <c:noMultiLvlLbl val="0"/>
      </c:catAx>
      <c:valAx>
        <c:axId val="17596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908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87F-66B2-428E-BC42-4288BFF7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D15-8CE7-4114-99F4-93A27525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C4E-4B3F-446B-9EE0-C97B329C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2F3-4DBE-4D8E-BED4-ED293BF8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B62-AB04-4128-A280-5600971C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617-9507-439A-AB96-C5C16F01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408-D52D-4009-BE67-D27D8407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E34-990A-4894-8C48-85F48391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35F-BD66-4555-A668-768C555B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6A0-042E-4547-9675-622D3D5F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223-47C3-4C96-86A8-F6FC88F5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620-56CB-4047-A234-F44A9D2D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3CE94-6BB4-44F0-A44F-75F787C1D4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