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361368"/>
        <c:axId val="72306397"/>
      </c:barChart>
      <c:catAx>
        <c:axId val="253613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306397"/>
        <c:crosses val="autoZero"/>
        <c:auto val="1"/>
        <c:lblAlgn val="ctr"/>
        <c:lblOffset val="100"/>
        <c:noMultiLvlLbl val="0"/>
      </c:catAx>
      <c:valAx>
        <c:axId val="723063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3613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FA5E-A0F5-46FB-A468-49F01D44A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F2DC-E3D7-4D08-B85F-66C3A5FD7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BA09-6797-447E-ABAE-D006F8087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33C3-673B-4805-9EB9-077AC7E0B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06A8-5316-44F6-85EB-12F16060F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8761-3ECA-4033-9D5B-7BEB022DB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DA8B-A4E4-49CF-9016-0AA21F5CE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C8AD-EB40-4B0D-A4D2-B2F130A81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1522-9770-406D-9221-81A15E550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4C71-FE1A-49B4-A2E2-5FD9A159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FD9F-FD5F-4DA7-8894-4D03DF2C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1F2F-2E4C-4F54-AE0B-F2A9AA86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4A7AF9-16B4-40FD-A42A-68A5E8164EC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