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13369"/>
        <c:axId val="25560391"/>
      </c:barChart>
      <c:catAx>
        <c:axId val="11313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60391"/>
        <c:crosses val="autoZero"/>
        <c:auto val="1"/>
        <c:lblAlgn val="ctr"/>
        <c:lblOffset val="100"/>
        <c:noMultiLvlLbl val="0"/>
      </c:catAx>
      <c:valAx>
        <c:axId val="25560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13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FFC-EB0C-4CB7-BF77-CCD9ECE9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F68-3FAC-4FF7-AB11-25AD9547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EAD-748D-47CD-83A0-A8D0E1F6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671-E5F5-4802-BAD9-619C796F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423-D2F7-4632-B303-F1BC836B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D0C-F2D7-44DE-AC64-0A98541E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700-3AAE-423F-B803-0B564089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30B-86BC-44CC-8108-5785E238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C6D-A5C7-4DAE-A2D7-BCDB44C7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BD6-0D4A-489D-80B9-FD4C6A81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5E7-DF2E-457C-98C3-36A24AD4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BF3-DADE-4962-A955-32F4490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C3CEF-EAB0-4BE7-BC74-DEF1AFC77B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