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59547"/>
        <c:axId val="19238965"/>
      </c:barChart>
      <c:catAx>
        <c:axId val="65759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38965"/>
        <c:crosses val="autoZero"/>
        <c:auto val="1"/>
        <c:lblAlgn val="ctr"/>
        <c:lblOffset val="100"/>
        <c:noMultiLvlLbl val="0"/>
      </c:catAx>
      <c:valAx>
        <c:axId val="19238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59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C42-9CAC-4570-AF8F-DB3C2973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E89-D147-44CA-AFA5-AE93B3CC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E6F-B4E9-4E3A-92BF-02771A16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846-11D6-4E72-87E7-01E41D89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487-9914-48EE-8661-7C79E440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AB7-CEB4-4004-B0A0-A4EAAA30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C46-6870-4E07-8D3C-15F52DA3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F81-D36D-4BD8-90C3-EF84CAEE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954-4AF5-4CA4-B0AC-05AA0196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F7A-069D-41E6-B626-71523DE3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11A-DBA4-4DE5-94F4-F440B837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2DA-9A97-4459-89D8-BE3E50A1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3C1CB-D234-4992-A219-34820BA034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