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88500"/>
        <c:axId val="86241815"/>
      </c:barChart>
      <c:catAx>
        <c:axId val="46788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41815"/>
        <c:crosses val="autoZero"/>
        <c:auto val="1"/>
        <c:lblAlgn val="ctr"/>
        <c:lblOffset val="100"/>
        <c:noMultiLvlLbl val="0"/>
      </c:catAx>
      <c:valAx>
        <c:axId val="86241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88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4997-BF55-4CF8-AB63-DE908D80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0E4-7785-4083-AB50-C727E861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1A5-2B45-445C-B227-308789E8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F97-478E-46A3-9DD5-CB6E811F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A0F-D5B1-409A-BEFC-44599FB3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646-C626-4984-B4F6-C9B642D3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EED-9BF7-42BB-87B2-5F696D20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251-5C6D-4019-AE1F-16941E00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717-6594-44C6-9F89-684F495F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BF1-22D1-442A-B336-F8331841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A46-D3EB-4C12-9CAA-27D2A979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5B6-C6E5-4B59-A521-01437D3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4D03D-3E46-47B2-A1B5-59B79270EF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