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88674"/>
        <c:axId val="85860756"/>
      </c:barChart>
      <c:catAx>
        <c:axId val="28788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60756"/>
        <c:crosses val="autoZero"/>
        <c:auto val="1"/>
        <c:lblAlgn val="ctr"/>
        <c:lblOffset val="100"/>
        <c:noMultiLvlLbl val="0"/>
      </c:catAx>
      <c:valAx>
        <c:axId val="85860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88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020-716A-4677-9F48-E8E556A3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66F-F735-4B07-8D39-3D3DE91F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BB2-1088-49E3-8CD6-2FB7E0AE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23C-FF14-4597-AE63-6C63933D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4A0-5E99-497E-8A90-D85AADD7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F62-319D-444C-A50B-9E0DCEF7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5C7-9B1E-48B6-BB08-522E0C40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B52-9CD9-4B86-A3CB-C2F82834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621-911B-407E-8965-1997E091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555-DECB-4CD7-9BFC-8D648CF3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E03-5864-4850-8148-84C9B8C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65C-69F5-4393-A95E-369FCB7E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54B1D-731B-47B8-93CD-6499A2D59E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