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58493"/>
        <c:axId val="66014688"/>
      </c:barChart>
      <c:catAx>
        <c:axId val="78158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4688"/>
        <c:crosses val="autoZero"/>
        <c:auto val="1"/>
        <c:lblAlgn val="ctr"/>
        <c:lblOffset val="100"/>
        <c:noMultiLvlLbl val="0"/>
      </c:catAx>
      <c:valAx>
        <c:axId val="66014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58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FD5-08E3-4D6D-B5FB-BEA807F0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082-ABE3-4E01-9775-35887251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F2C-65FA-48BB-99E5-F5963CFD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256-9B88-46E3-8381-CFFE3735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E7C-D2BF-4A3F-85FB-49EDABC2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7EF-3D10-4314-AD98-58813F0A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037-7ECA-4E1B-BDF0-62853543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039-635D-4C6A-9C0E-F0430C17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FBF-B843-406C-AD4F-0F16ADA2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75A-EC59-439A-BFC6-C8366C04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4B4-D75F-4D10-84C0-1C41EE4C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1D3-AB0A-4F25-8502-81E2221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CD9E2-5872-4468-B4F6-AC876210F4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