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43685"/>
        <c:axId val="48668735"/>
      </c:barChart>
      <c:catAx>
        <c:axId val="845436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68735"/>
        <c:crosses val="autoZero"/>
        <c:auto val="1"/>
        <c:lblAlgn val="ctr"/>
        <c:lblOffset val="100"/>
        <c:noMultiLvlLbl val="0"/>
      </c:catAx>
      <c:valAx>
        <c:axId val="48668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436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0BEA-AFF5-4415-9177-AAD36DE4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F013-E428-46E5-A999-79C48ADC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C5A-D69E-4607-B695-8F6AC8A8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16A-78CD-4536-8EF2-935C6AD2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3FE-D6CA-478C-8625-7ADF2A26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27F-31FB-4530-B6C3-CF7FC554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F59-B8E3-4F02-A073-F10DA293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35D2-9777-47AC-AF74-5C2415A3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C2B1-59D4-4BBE-ACEA-3342C5D5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1F9C-9EEB-494A-A5C9-CE4B62FA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0D01-CE8E-4A28-A0BF-76FE3FEF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166-FC8C-4BC7-A386-2D1E4671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47BBF-9CA8-4C85-B302-923F8D0A0C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