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8583"/>
        <c:axId val="12956175"/>
      </c:barChart>
      <c:catAx>
        <c:axId val="1838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6175"/>
        <c:crosses val="autoZero"/>
        <c:auto val="1"/>
        <c:lblAlgn val="ctr"/>
        <c:lblOffset val="100"/>
        <c:noMultiLvlLbl val="0"/>
      </c:catAx>
      <c:valAx>
        <c:axId val="12956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8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049-4A76-43E9-A043-7FDCC884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553-A337-4CBE-A89B-0FCAFAE3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623-A239-4CC3-B098-AC9720A0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73E-CE5F-4B7F-A0EF-F0EAE44F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A6D-944C-4F30-A543-9E5DFAF5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9B9-9410-4C25-94A9-CEA5023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1F2-D38C-4307-87EF-664D1FD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F56-4927-445E-AAF5-55958E19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B2C-A65E-4B2F-95EC-A9FD677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26F-DE61-4DBB-B345-2FAEF71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7D9-E9C8-4549-898C-902ACCA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E8D-B1E7-4724-9A1B-57514D2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AB2FA-394A-4060-AE90-B8DDD302C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