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181645"/>
        <c:axId val="21399056"/>
      </c:barChart>
      <c:catAx>
        <c:axId val="251816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99056"/>
        <c:crosses val="autoZero"/>
        <c:auto val="1"/>
        <c:lblAlgn val="ctr"/>
        <c:lblOffset val="100"/>
        <c:noMultiLvlLbl val="0"/>
      </c:catAx>
      <c:valAx>
        <c:axId val="213990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816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A285-D780-450A-A17E-E0DAD03D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6E63-E3EF-4A51-8E51-072C4D23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848E-14AB-4047-B0DD-48DF27B1C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00F-7B78-4516-AF69-7DF71314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219-FD3E-49AD-98F9-17BA507D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E0F-42D8-461A-A3B7-DA38A5C4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84AD-E258-49A4-A5EC-4360AFBB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6A4-8569-4810-95AD-EEA3E2F3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BFDD-0A70-419D-BFDA-59D1895A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E4CB-9904-42BC-908E-E07FBF99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5CC8-4BF4-46E7-BF68-48CEC64E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352A-2BF1-4281-A209-B5594FF7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6D755-4F5C-4D51-A0F4-385A455D97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