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67313"/>
        <c:axId val="21477680"/>
      </c:barChart>
      <c:catAx>
        <c:axId val="55167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7680"/>
        <c:crosses val="autoZero"/>
        <c:auto val="1"/>
        <c:lblAlgn val="ctr"/>
        <c:lblOffset val="100"/>
        <c:noMultiLvlLbl val="0"/>
      </c:catAx>
      <c:valAx>
        <c:axId val="21477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7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C81-FCE7-450C-ADC8-EFDA0639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7E8-E877-44B2-9E47-B2105BFB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391-5310-4810-A0FB-49F7C482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6A5-7235-4244-9204-C393D49D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B40-8A42-4AD4-A0D5-DD3E675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93E-494D-4D6B-84F3-6E39776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E57-CFCB-45BB-87FE-6A342EE7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B5E-A2B9-4DD3-AC69-98A16301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E09-B97A-43C7-A51F-F4FC71D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CE0-BA80-400C-ABA1-703D13E7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DAC-9178-4183-A76C-784C771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3FF-0C2A-475D-BB21-A4982F0E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99527-6BE3-441A-8E8A-07B5B8C26F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