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47194"/>
        <c:axId val="29988606"/>
      </c:barChart>
      <c:catAx>
        <c:axId val="61247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88606"/>
        <c:crosses val="autoZero"/>
        <c:auto val="1"/>
        <c:lblAlgn val="ctr"/>
        <c:lblOffset val="100"/>
        <c:noMultiLvlLbl val="0"/>
      </c:catAx>
      <c:valAx>
        <c:axId val="29988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7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6E0-4231-4591-93CF-CC5EF4A0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0C5-999E-4F47-BAEC-D77D22F8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FDC-9839-4D54-9AA0-D828EFF4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9725-DBFC-4BF2-AAC1-FDD09A33B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778-B124-4F73-9495-D3646AF8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307C-F4C2-40F0-9D08-FD37E8CA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F459-38B7-408D-AC39-06E08F0D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D68-AC87-47E6-B3B7-ADDC15E2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B66-EC55-4F01-A020-C8CAA56E8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8A27-383C-4067-AC7E-3B520D56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8C9-5E49-4586-B787-1B011C6B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2E24-03C7-4141-B39B-5DF6D75C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00211-A364-419D-81B8-78EAA0FD78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