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33693"/>
        <c:axId val="93539898"/>
      </c:barChart>
      <c:catAx>
        <c:axId val="95333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9898"/>
        <c:crosses val="autoZero"/>
        <c:auto val="1"/>
        <c:lblAlgn val="ctr"/>
        <c:lblOffset val="100"/>
        <c:noMultiLvlLbl val="0"/>
      </c:catAx>
      <c:valAx>
        <c:axId val="93539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33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462-3F14-4D61-8B79-BF51EF36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585-2DB4-493B-A8CE-DA51EAA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5DD-0A25-4AE3-A056-25773215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2D2-8F58-4CC5-8010-FC039106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3F8-0A4C-4DC4-8599-3DA1A1E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54C-13A3-43FB-901B-24F073B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8B3-7532-464F-832F-EF94AF5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150-E8A6-41F5-B90A-56D2AFF3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64D-966B-40AC-9A5F-5675D7DE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AFC-C74F-40E8-968D-A7EEBA2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D5C-4178-4823-BB51-296BAA0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24A-225C-493C-8EC9-5D2CF2F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902B-A359-4DAD-A0F7-C7FD5A94D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