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2242"/>
        <c:axId val="74631638"/>
      </c:barChart>
      <c:catAx>
        <c:axId val="26122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1638"/>
        <c:crosses val="autoZero"/>
        <c:auto val="1"/>
        <c:lblAlgn val="ctr"/>
        <c:lblOffset val="100"/>
        <c:noMultiLvlLbl val="0"/>
      </c:catAx>
      <c:valAx>
        <c:axId val="746316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22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898-B78A-4ACF-8CBF-B4A8A92F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D21-B697-4CAD-9280-FDC9A900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11F-64C4-445C-BCA5-89F0372F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DDA-B55A-40BF-A2E2-E17CEA96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2CC-5FED-4829-AB87-88EFDAE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CBC-A964-4652-A230-0EF938CA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320-50D4-4CE2-9DD2-B918E989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13D-5A35-4DE1-8EFA-E5936C8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BDE-E4B3-48D9-B680-C3D6727B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684-10DD-4B8A-8B91-47A8D88E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E82-1C67-4297-B98A-BA81190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0EA-8AA7-4A26-B820-615D08AF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3C293-7D50-400B-A85D-3FF009AC2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