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19286"/>
        <c:axId val="52104368"/>
      </c:barChart>
      <c:catAx>
        <c:axId val="33319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04368"/>
        <c:crosses val="autoZero"/>
        <c:auto val="1"/>
        <c:lblAlgn val="ctr"/>
        <c:lblOffset val="100"/>
        <c:noMultiLvlLbl val="0"/>
      </c:catAx>
      <c:valAx>
        <c:axId val="52104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19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7BC-BEFE-4948-BF28-BD6BE101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51A-1975-4F3B-B88E-8801F8A9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294-4764-4F5A-A621-3048DFEE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EC1-9637-48B3-8BC4-52FADC7C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4D7-903D-4D59-83DB-6C550C04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8C9-7C7C-4906-843C-32A61068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96A-AE17-431E-BF6D-1B9A593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3BB-65D6-442E-8323-B3CC3AC0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956-A870-47B0-9395-E091E83E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E31-59D0-40BC-BEB4-2D3D4BCF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6A9-F329-46E2-AD4B-24E53347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29A-0702-4BF1-B287-2E50C655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DAA3A-2497-4F0B-9F71-3D61284532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