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0697"/>
        <c:axId val="57175212"/>
      </c:barChart>
      <c:catAx>
        <c:axId val="3490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75212"/>
        <c:crosses val="autoZero"/>
        <c:auto val="1"/>
        <c:lblAlgn val="ctr"/>
        <c:lblOffset val="100"/>
        <c:noMultiLvlLbl val="0"/>
      </c:catAx>
      <c:valAx>
        <c:axId val="57175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0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064-5B6F-4202-B8B2-6F1788F5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375-F263-4874-A588-A2E8033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AEB-F0AE-4599-B5D0-34AFFB53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B08-E968-47E1-AC94-2EC862F4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453-85FD-4E74-A3C2-E44C2472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6BF-0652-4744-BA06-A4557109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A99-F9D6-4FED-B5E8-EAC551F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2B4-1871-4BEB-ABF2-84CCE5E8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19A-2142-45FF-B0DF-ABD325AB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C1E-FCD6-46AC-BC37-4110202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1A0-F4B4-4D03-8FDD-C1EDAF31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7D6-E022-45D0-8440-EB70F17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5C456-56A4-4F22-AC11-2F37254A0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