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59986"/>
        <c:axId val="97015615"/>
      </c:barChart>
      <c:catAx>
        <c:axId val="47659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15615"/>
        <c:crosses val="autoZero"/>
        <c:auto val="1"/>
        <c:lblAlgn val="ctr"/>
        <c:lblOffset val="100"/>
        <c:noMultiLvlLbl val="0"/>
      </c:catAx>
      <c:valAx>
        <c:axId val="97015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59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201-31BC-4B62-AAF5-83D5FA52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5BC-EE1D-4E05-9C06-024D81A5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829-7F2E-4687-8630-060CD06E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5AE-DC65-42E4-A05E-B8FE06C4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B18-3150-48AC-A15E-C360E953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3D7-2971-4C2F-AB60-FB73E299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668-4A5A-4F6E-80BE-4D7EC70B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46A-1274-4795-ABA1-A12085D0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75C-7EDB-4D8A-89BA-4262F58D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355-07D6-4485-963C-FBECD9EE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3B2-2E60-4556-8A7E-7582677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A0E-54EF-4475-86E0-73DE6633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F12D3-9B0A-4686-9F8C-BD061B5D87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