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64381"/>
        <c:axId val="66951051"/>
      </c:barChart>
      <c:catAx>
        <c:axId val="40864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51051"/>
        <c:crosses val="autoZero"/>
        <c:auto val="1"/>
        <c:lblAlgn val="ctr"/>
        <c:lblOffset val="100"/>
        <c:noMultiLvlLbl val="0"/>
      </c:catAx>
      <c:valAx>
        <c:axId val="66951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64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EC1-5C8A-4C97-B00F-D9DE4316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724-873B-473E-9D7A-CB60C249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FDF-830E-4B31-A4C7-1FBEEB4C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330-BF58-46BF-8A9A-AC40ABA8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29D-8AE3-46D4-919B-E79523AA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1F3-F848-4DED-B26B-41E1F55C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7CC-809D-4BF6-B2DF-A278447D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6C7-DA41-40A9-BCAC-2168E3D6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2A7-49D5-4E9D-854A-6D641CCE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43A-C3C5-4E41-A83B-12D5B2B0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DF3-95DB-42BD-BB9E-9767B935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938-742E-4885-8E39-0095F0F4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B0F96-B621-4E32-8899-2839601663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