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62655"/>
        <c:axId val="32338373"/>
      </c:barChart>
      <c:catAx>
        <c:axId val="74862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38373"/>
        <c:crosses val="autoZero"/>
        <c:auto val="1"/>
        <c:lblAlgn val="ctr"/>
        <c:lblOffset val="100"/>
        <c:noMultiLvlLbl val="0"/>
      </c:catAx>
      <c:valAx>
        <c:axId val="32338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62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E9C-7F4C-4A7F-80D5-F4883CA8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1E6-DD54-4A8E-A575-3323E0E2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4E1-F576-47FE-88AC-AB0C8F15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19E-45D2-40B8-9C47-EFDA326F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B80-700B-4C17-B720-5F07979F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EF6-FE32-4CD4-B1D3-FDE90BEF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E86-424B-462E-845A-CCAD4AFB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CD5-8D96-4CF7-AD7D-5AD6ABC9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A05-E02B-4E0C-A6B8-F89113C3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B2D-0DB4-4E8F-90AC-E425D8AF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2A3-FDF0-488D-9CD4-78FED5C5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D20-60BD-4816-860C-8FF90D1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03510-3D91-415A-ACEE-533E6418F5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