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1519"/>
        <c:axId val="66754272"/>
      </c:barChart>
      <c:catAx>
        <c:axId val="9481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4272"/>
        <c:crosses val="autoZero"/>
        <c:auto val="1"/>
        <c:lblAlgn val="ctr"/>
        <c:lblOffset val="100"/>
        <c:noMultiLvlLbl val="0"/>
      </c:catAx>
      <c:valAx>
        <c:axId val="66754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726-743A-452E-813F-6A350A7F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DEE-4C89-458F-8935-08A901F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C53-64FF-47D6-A6E2-92262856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9B6-5ACD-4B13-B478-D86A12D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63C-3DE2-42C0-9862-8420579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7AE-9749-4F7A-BBBD-A2C73D0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E25-AE3C-43F1-9EA8-F842C06F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CE8-B236-40F9-AC2C-B71C539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7E6-06E1-432D-8786-24ECB88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080-694F-466E-9D6C-7C282F6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A58-C85F-4CBD-9867-93CCB38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770-0949-49D3-8761-F7319A3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BCFC3-C712-46E5-A7B0-45DE2EF3B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