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061"/>
        <c:axId val="92052484"/>
      </c:barChart>
      <c:catAx>
        <c:axId val="9357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52484"/>
        <c:crosses val="autoZero"/>
        <c:auto val="1"/>
        <c:lblAlgn val="ctr"/>
        <c:lblOffset val="100"/>
        <c:noMultiLvlLbl val="0"/>
      </c:catAx>
      <c:valAx>
        <c:axId val="92052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384-C0C6-4CBD-8158-6ED83DC9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325-7E03-43EA-B95C-E5D9365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3BC-77AE-4F99-83C7-92D9064E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09F-11EB-4F8C-B582-B96FF7AD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1D0-C606-482D-A6C9-0795758D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228-C66B-4E2E-BAB0-4FC9407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860-684B-43A9-ABB6-DCA835F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0FB-9088-49F8-A5B9-A203569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3EC-51DE-4836-A4F6-8274B1D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47E-D24D-4F67-A19D-556057D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AFF-40B8-4CD9-894D-5CD244E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304-DB3A-46A7-9457-914DAFA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A652F-15F8-4A90-819F-067107ED93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