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56083"/>
        <c:axId val="69165028"/>
      </c:barChart>
      <c:catAx>
        <c:axId val="39156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65028"/>
        <c:crosses val="autoZero"/>
        <c:auto val="1"/>
        <c:lblAlgn val="ctr"/>
        <c:lblOffset val="100"/>
        <c:noMultiLvlLbl val="0"/>
      </c:catAx>
      <c:valAx>
        <c:axId val="69165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56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CB1-856B-47D5-A04C-96B8A642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102-D53A-402A-B55F-9A95A2E2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80D-FA78-4430-8160-D65C451C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1BB-0C77-4044-B40F-1844F786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161-2DF7-46B9-BFE7-C5CC55DD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EE8-4682-4A6B-B75A-59EB6477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6F8-5C3C-4518-AD62-102CAD4C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AFA-EB42-4B92-8B3A-DED9944F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CDD0-EB7C-4A81-8643-922D9D38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B6D-FBC5-42DE-9295-28A989C5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55E-14D0-4F7C-AB36-A6FDA2CD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95E-C192-4F5F-85C4-9549403B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66DAE-5A59-44FE-A3F7-2C428B4336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