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18736"/>
        <c:axId val="34303310"/>
      </c:barChart>
      <c:catAx>
        <c:axId val="46318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03310"/>
        <c:crosses val="autoZero"/>
        <c:auto val="1"/>
        <c:lblAlgn val="ctr"/>
        <c:lblOffset val="100"/>
        <c:noMultiLvlLbl val="0"/>
      </c:catAx>
      <c:valAx>
        <c:axId val="34303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18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3F3-4BD3-49A6-B706-BA43C49B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1A6-1C05-4525-8B2C-EAA3463C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716-0CC2-49CA-920F-42D9EC67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680-160B-421B-9E24-BFACA730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B1F-1FA6-40AC-A2A0-AA4E36DE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1F5-5050-4469-829E-BC5D10D8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E77-9C3C-4F3C-B35A-98105793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C90-8884-4858-88A7-F16D881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A3B-0AD0-40E9-B226-E9FC31B1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0BB-53D3-4F8E-80C9-612F4FD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C2E-F868-4D04-BC57-8ADD98F8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9C6-10A5-4BC2-A128-5FA266A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FAB0A-9E68-48AF-BE80-F17FB60C44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