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84413"/>
        <c:axId val="91779249"/>
      </c:barChart>
      <c:catAx>
        <c:axId val="33384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79249"/>
        <c:crosses val="autoZero"/>
        <c:auto val="1"/>
        <c:lblAlgn val="ctr"/>
        <c:lblOffset val="100"/>
        <c:noMultiLvlLbl val="0"/>
      </c:catAx>
      <c:valAx>
        <c:axId val="91779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84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BCC-F8C6-451D-A947-81BD4A68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9BB-B3F0-475F-B256-57C5F7E6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A0F-E31D-4597-984C-D34439C9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799-F40B-43CC-B612-0DCC6AF1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41A-9A74-4DFA-8FCC-BF392B4B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F18-6A54-4483-BE3F-36D80F55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EBC-5D73-40BF-B2AF-3B32BCCA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9E8-FAE9-4630-A693-C6E5C0D0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675-C842-47E8-AA9D-7759C1EE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B10-901A-45A6-87F9-C1BE0831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A35-7B8A-4BF2-AE38-0EC549A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40A-3C47-4345-A0C3-92B6AC55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90AB2-D38C-420A-9368-2C6A88D853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